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875-119D-4525-B3A0-3E3C976E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F9F-A40F-4266-A2FF-16FEE4D3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47D-7D51-4D47-8C46-2AE129AE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88C-9B50-4A40-A2E7-3A8637ED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C57D4-9BD3-46C5-9989-69E1226C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AF0FE-12B1-4CE8-871F-FAA60EC5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4E374-D564-40CD-AE1D-1060CFDE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742E7-4F3B-4C8B-9015-0FC21BBD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9746D-C14B-4958-9A07-F9743A30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2A3B2-4AA0-47FC-AB61-D816AD06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D072E-7672-443A-BB3E-EC4544E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5D7-146B-47D6-9E8A-D226AE70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78318-7D3D-4300-A199-88A4DC9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6DF15-8D66-4E9C-8473-EFB3647C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5D8C3-AC1D-4FB6-9C67-22FA4EC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0D5AF-8461-48B8-B8BD-04EEE4D2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1BE42-E175-4442-A04B-1B8574AE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033-5D26-4E77-A512-2A110D5F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B4C-8E15-47A3-85B0-EE56DA50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A12-8127-4AC3-8FCC-4E69C887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EC5-4C08-4F79-B79C-7DB95209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C63-6E27-4DEB-8714-545E8978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6A8-AFF8-41B5-B6CB-C966D5E1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DBD-F454-4147-90EF-3324898E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06AE-BB08-44D1-B804-49655A52FC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AF3A-402F-4067-8A24-ADA011EA17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Projec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k Urban Acad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 Schack, Teresa Stonerock, Mary Tinsley, Carolyn Cutler Osbor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r. Schack demonstrates the dulcim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43040" y="1909800"/>
            <a:ext cx="47898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and their dulcim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43040" y="1909800"/>
            <a:ext cx="40579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paint their quilt bloc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07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ry &amp; students sew quilt to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523880" y="1600200"/>
            <a:ext cx="63072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finished quil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00200" y="2057400"/>
            <a:ext cx="55022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da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0384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urpo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urpose of our project was to demonstrate to pre-service teachers how to teach about a culture using the arts (music, visual arts, dance, and dram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purpose of our project was to introduce students at Beck to Appalachian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ck Urban Acade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k is part of the Columbus Public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a high rate of 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t is located on the south side of Columbus, Beck serves Appalachian children and their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mponents of the project:  Music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ught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songs as cultural 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ed instruments—fiddle, banjo, guitar, dulci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a live bluegrass band for the 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simple working dulc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simple block q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drew pictures to represent their thinking about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decorated their dulc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rama and Da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reader’s theater version of a Jack 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process drama to explore alternate endings of the Jack 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a square dance as the culminating event of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king mus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71600" y="1447920"/>
            <a:ext cx="65818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rl lets students play his banj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00200" y="1600200"/>
            <a:ext cx="6180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rt of the square dance b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828800"/>
            <a:ext cx="57672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0:39:16Z</dcterms:created>
  <dc:creator>Capital University</dc:creator>
  <dc:description/>
  <dc:language>en-US</dc:language>
  <cp:lastModifiedBy>Capital University</cp:lastModifiedBy>
  <dcterms:modified xsi:type="dcterms:W3CDTF">2005-06-28T01:02:20Z</dcterms:modified>
  <cp:revision>7</cp:revision>
  <dc:subject/>
  <dc:title>The Appalachian Project</dc:title>
</cp:coreProperties>
</file>